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0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i="1" lang="en-NZ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3"/>
          </p:nvPr>
        </p:nvSpPr>
        <p:spPr>
          <a:xfrm>
            <a:off x="3776760" y="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i="1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i="1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4"/>
          </p:nvPr>
        </p:nvSpPr>
        <p:spPr>
          <a:xfrm>
            <a:off x="-144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i="1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i="1" lang="en-N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5"/>
          </p:nvPr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i="1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B352F240-58D6-42B5-A4C0-CA7F40D3AAB4}" type="slidenum">
              <a:rPr b="0" i="1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02520" y="9455040"/>
            <a:ext cx="12646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39C04B-3E8B-4004-83AC-6451FF92EC75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Img"/>
          </p:nvPr>
        </p:nvSpPr>
        <p:spPr>
          <a:xfrm>
            <a:off x="657360" y="752040"/>
            <a:ext cx="535608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QuayItcT-Bold"/>
              </a:rPr>
              <a:t>Click to move the slide</a:t>
            </a:r>
            <a:endParaRPr b="0" lang="en-US" sz="3200" spc="-1" strike="noStrike">
              <a:solidFill>
                <a:srgbClr val="969696"/>
              </a:solidFill>
              <a:latin typeface="QuayItcT-Bold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body"/>
          </p:nvPr>
        </p:nvSpPr>
        <p:spPr>
          <a:xfrm>
            <a:off x="885600" y="4714560"/>
            <a:ext cx="4895640" cy="4467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57360" y="752400"/>
            <a:ext cx="5356080" cy="3708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5600" y="4714560"/>
            <a:ext cx="4895640" cy="4467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MAKE YOURSELF BETTER – WEBSITE 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Clean Layout of results (and search bo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eople shouldn’t have to think to hard to identify the result they’re looking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Have a plan to refine your 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Check meta-data every 3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SzPct val="103006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Maybe not dedicated staff, maybe a six month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otentially add more tools as time goes on (BehaviorTracking, InformationManager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f you already have a website, look at investing in a more powerful search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The better the search product, the better the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ntergen offers MondoSearch as it’s high end search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Gives much more flexibility and information to the web master to tune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Maximise your use of the functionality offered by what you do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Gives you more return on your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57360" y="752400"/>
            <a:ext cx="5356080" cy="3708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5600" y="4714560"/>
            <a:ext cx="4895640" cy="4467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No plans for future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oever is in charge of your website content needs to ensure that associated meta data is kept up to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Be aware of how long it takes content to appear in your search results (index craw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657360" y="752400"/>
            <a:ext cx="5356080" cy="3708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5600" y="4714560"/>
            <a:ext cx="4895640" cy="4467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MAKE YOURSELF BETTER – INTERNET 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Ensure you have great content. If you have great content you’ll rank high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he more links th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ageRank takes into account more than 100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Google “failu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Quality of site linking to you (their PageRan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Ranking engines are all about making slow changes, to avoid being taken advantag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657360" y="752400"/>
            <a:ext cx="5356080" cy="3708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5600" y="4714560"/>
            <a:ext cx="4895640" cy="4467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NOT JUST PERFORMANCE IN TERMS OF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You need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Does no feedback mean you’re perfect? More likely they’ve just given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Can you answer thes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at terms are people searching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at terms aren’t returning resul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ich results are being selec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po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ee what competitor products feature stro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ee what competitors are looking for (IP 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dentify commo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BehaviourTracker gives great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Example screen shots to fo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657360" y="752400"/>
            <a:ext cx="5356080" cy="3708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5600" y="4714560"/>
            <a:ext cx="4895640" cy="4467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Yahoo SiteExplorer –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Google SiteMaps -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et Goals -&gt; Double link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Request that partners link to your site (maybe link exchange) cross pollination of media release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Most commercial tools are use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Companies like Google invest a lot into not being manipulated eas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Follows on to what we said earlier about it tak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ubmitting your website to X million websites doesn’t matter – most people use google, yahoo, m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ave your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657360" y="752400"/>
            <a:ext cx="5356080" cy="3708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85600" y="4714560"/>
            <a:ext cx="4895640" cy="4467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Types of 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Why you don’t want Goo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e get many clients coming to us explaining that they would like their search results to just be like Google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Improving your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Analysing your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657360" y="752400"/>
            <a:ext cx="5356080" cy="3708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85600" y="4714560"/>
            <a:ext cx="4895640" cy="4467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Enterprise 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Been done before, now renewed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earching documents within your company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Not just intranet site, but file shares, email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his product space is going to explode s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Website 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earch within your public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ools are being made better all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resentation focusing on this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Global Search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Google, MS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Google has revolutionised this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ile the most mature space, still a long way to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CHALLENGE OF BRINGING GLOBAL QUALITY TO YOUR SEARCH - DISC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657360" y="752400"/>
            <a:ext cx="5356080" cy="3708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885600" y="4714560"/>
            <a:ext cx="4895640" cy="4467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rieval of a result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known as “Recal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king by Rele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known as “Precis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to get high recall – just return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is to get high recall WITH high pr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 becom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L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657360" y="752400"/>
            <a:ext cx="5356080" cy="3708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85600" y="4714560"/>
            <a:ext cx="4895640" cy="4467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Most Valuable Media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Only seven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Worth more than 110 billion US dol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Powered by more than 10,000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Google is more than just a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Biggest advertising network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Many various products (blogs, image management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657360" y="752400"/>
            <a:ext cx="5356080" cy="3708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5600" y="4714560"/>
            <a:ext cx="4895640" cy="4467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You don’t have 100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Google has spent millions of dollars developing their search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hey have a team of 5000 staff, many specialising in refining their search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Knowing what pages within a single site are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Because of how PageRank works, Google falls down when searching within a single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earch algorithms for individual sites have been defined for a while, only now starting to inno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Note Google Appliance not availabl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It’s not designed to be a website search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At the end of the day, Google just isn’t designed for searching a single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57360" y="752400"/>
            <a:ext cx="5356080" cy="3708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5600" y="4714560"/>
            <a:ext cx="4895640" cy="4467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Improved u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Visitors find search works they are likely to be more satis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pend more time at your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n retur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More returned vis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eople who are happy about a site will continue usi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Higher chance they will pass on references to your site (word of mou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Increased return on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A little bit of improvement can increase the value of your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f creating value for the end user wasn’t a reason for creating the site then you shouldn’t have created it in the first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Creates value with your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8634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20" y="4183920"/>
            <a:ext cx="8634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12920" y="206028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88520" y="418392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2920" y="418392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27799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07760" y="2060280"/>
            <a:ext cx="27799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7000" y="2060280"/>
            <a:ext cx="27799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8520" y="4183920"/>
            <a:ext cx="27799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07760" y="4183920"/>
            <a:ext cx="27799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7000" y="4183920"/>
            <a:ext cx="27799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88520" y="2060280"/>
            <a:ext cx="8634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8634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4213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12920" y="2060280"/>
            <a:ext cx="4213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9079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12920" y="2060280"/>
            <a:ext cx="4213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520" y="418392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88520" y="2060280"/>
            <a:ext cx="8634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4213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2920" y="206028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12920" y="418392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12920" y="206028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8520" y="4183920"/>
            <a:ext cx="8634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8634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8520" y="4183920"/>
            <a:ext cx="8634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2920" y="206028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8520" y="418392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12920" y="418392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27799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07760" y="2060280"/>
            <a:ext cx="27799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7000" y="2060280"/>
            <a:ext cx="27799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8520" y="4183920"/>
            <a:ext cx="27799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07760" y="4183920"/>
            <a:ext cx="27799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7000" y="4183920"/>
            <a:ext cx="27799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215DB-0341-47C3-8531-B86F02152B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88520" y="2060280"/>
            <a:ext cx="8634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5B15-5CC0-4BC7-99A4-8A4A7954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8634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AFEF9-54F4-4F4C-A58B-A48AF2EE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4213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2920" y="2060280"/>
            <a:ext cx="4213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17D5D-0492-4CAA-839E-82FAB2A4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A96BF-8C3F-485C-A0A0-DC03A156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8634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95000" y="9079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F8195-3441-435D-BF34-C117903F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2920" y="2060280"/>
            <a:ext cx="4213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8520" y="418392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EC009-9767-4C21-B8FB-FFE36755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4213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2920" y="206028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12920" y="418392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FC26-3DF1-4A6E-9503-C5107DA5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2920" y="206028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88520" y="4183920"/>
            <a:ext cx="8634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E6086-EBC2-4384-BFB1-69AA13D0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8634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520" y="4183920"/>
            <a:ext cx="8634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1F38B-F5DB-4E3B-986A-3B602E07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12920" y="206028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520" y="418392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12920" y="418392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258FA-86A2-4303-99A2-B70C447D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27799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07760" y="2060280"/>
            <a:ext cx="27799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27000" y="2060280"/>
            <a:ext cx="27799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8520" y="4183920"/>
            <a:ext cx="27799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407760" y="4183920"/>
            <a:ext cx="27799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27000" y="4183920"/>
            <a:ext cx="277992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9CE75-2C09-4EAA-908D-4822394F5F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4213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12920" y="2060280"/>
            <a:ext cx="4213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5000" y="9079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2920" y="2060280"/>
            <a:ext cx="4213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520" y="418392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4213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2920" y="206028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2920" y="418392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2920" y="2060280"/>
            <a:ext cx="421344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8520" y="4183920"/>
            <a:ext cx="8634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3716280"/>
          </a:xfrm>
          <a:prstGeom prst="rect">
            <a:avLst/>
          </a:prstGeom>
          <a:solidFill>
            <a:srgbClr val="ffd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38160" y="5873760"/>
            <a:ext cx="1035000" cy="98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98600" y="4654440"/>
            <a:ext cx="1898640" cy="1898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5010120"/>
            <a:ext cx="1847880" cy="1847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4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6119640" y="2781360"/>
          <a:ext cx="344340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9640" y="2781360"/>
                    <a:ext cx="3443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70c"/>
                </a:solidFill>
                <a:latin typeface="QuayItcT-Bold"/>
              </a:rPr>
              <a:t>Click to edit the title text format</a:t>
            </a:r>
            <a:endParaRPr b="0" lang="en-US" sz="3600" spc="-1" strike="noStrike">
              <a:solidFill>
                <a:srgbClr val="ffd70c"/>
              </a:solidFill>
              <a:latin typeface="QuayItcT-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21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QuayItcT-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QuayItcT-Book"/>
            </a:endParaRPr>
          </a:p>
          <a:p>
            <a:pPr lvl="1" marL="681120" indent="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QuayItcT-BoldItal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QuayItcT-BoldItalic"/>
            </a:endParaRPr>
          </a:p>
          <a:p>
            <a:pPr lvl="2" marL="1023840" indent="-172800">
              <a:spcBef>
                <a:spcPts val="1001"/>
              </a:spcBef>
              <a:buClr>
                <a:srgbClr val="ffd500"/>
              </a:buClr>
              <a:buFont typeface="QuayItcT-Black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QuayItcT-Boo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QuayItcT-Book"/>
            </a:endParaRPr>
          </a:p>
          <a:p>
            <a:pPr lvl="3" marL="1371600" indent="-231840">
              <a:spcBef>
                <a:spcPts val="675"/>
              </a:spcBef>
              <a:buClr>
                <a:srgbClr val="ffd500"/>
              </a:buClr>
              <a:buFont typeface="QuayItcT-Black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QuayItcT-BoldItalic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QuayItcT-BoldItalic"/>
            </a:endParaRPr>
          </a:p>
          <a:p>
            <a:pPr lvl="4" marL="1717560" indent="-172800">
              <a:spcBef>
                <a:spcPts val="601"/>
              </a:spcBef>
              <a:buClr>
                <a:srgbClr val="ffd500"/>
              </a:buClr>
              <a:buFont typeface="QuayItcT-Black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QuayItcT-Book"/>
              </a:rPr>
              <a:t>Fifth Outline Level</a:t>
            </a:r>
            <a:endParaRPr b="0" i="1" lang="en-US" sz="1600" spc="-1" strike="noStrike">
              <a:solidFill>
                <a:srgbClr val="ffffff"/>
              </a:solidFill>
              <a:latin typeface="QuayItcT-Book"/>
            </a:endParaRPr>
          </a:p>
          <a:p>
            <a:pPr lvl="5" marL="1717560" indent="-172800">
              <a:spcBef>
                <a:spcPts val="400"/>
              </a:spcBef>
              <a:buClr>
                <a:srgbClr val="000000"/>
              </a:buClr>
              <a:buFont typeface="QuayItcT-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QuayItcT-Book"/>
              </a:rPr>
              <a:t>Sixth Outline Level</a:t>
            </a:r>
            <a:endParaRPr b="0" i="1" lang="en-US" sz="1600" spc="-1" strike="noStrike">
              <a:solidFill>
                <a:srgbClr val="ffffff"/>
              </a:solidFill>
              <a:latin typeface="QuayItcT-Book"/>
            </a:endParaRPr>
          </a:p>
          <a:p>
            <a:pPr lvl="6" marL="1717560" indent="-172800">
              <a:spcBef>
                <a:spcPts val="400"/>
              </a:spcBef>
              <a:buClr>
                <a:srgbClr val="000000"/>
              </a:buClr>
              <a:buFont typeface="QuayItcT-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QuayItcT-Book"/>
              </a:rPr>
              <a:t>Seventh Outline Level</a:t>
            </a:r>
            <a:endParaRPr b="0" i="1" lang="en-US" sz="1600" spc="-1" strike="noStrike">
              <a:solidFill>
                <a:srgbClr val="ffffff"/>
              </a:solidFill>
              <a:latin typeface="QuayItc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066000"/>
            <a:ext cx="92088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4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562040" y="2805120"/>
            <a:ext cx="6738840" cy="1219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6480" y="5010120"/>
            <a:ext cx="1847880" cy="1847880"/>
          </a:xfrm>
          <a:prstGeom prst="ellipse">
            <a:avLst/>
          </a:prstGeom>
          <a:solidFill>
            <a:srgbClr val="ffd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QuayItcT-Bold"/>
              </a:rPr>
              <a:t>Click to edit the title text format</a:t>
            </a:r>
            <a:endParaRPr b="0" lang="en-US" sz="3200" spc="-1" strike="noStrike">
              <a:solidFill>
                <a:srgbClr val="969696"/>
              </a:solidFill>
              <a:latin typeface="QuayItcT-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QuayItcT-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QuayItcT-Book"/>
            </a:endParaRPr>
          </a:p>
          <a:p>
            <a:pPr lvl="1" marL="446040"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QuayItcT-BoldItal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QuayItcT-BoldItalic"/>
            </a:endParaRPr>
          </a:p>
          <a:p>
            <a:pPr lvl="2" marL="851040" algn="ctr">
              <a:spcBef>
                <a:spcPts val="1001"/>
              </a:spcBef>
              <a:buClr>
                <a:srgbClr val="ffd500"/>
              </a:buClr>
              <a:buFont typeface="QuayItcT-Blac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QuayItcT-Boo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QuayItcT-Book"/>
            </a:endParaRPr>
          </a:p>
          <a:p>
            <a:pPr lvl="3" marL="1139760" algn="ctr">
              <a:spcBef>
                <a:spcPts val="675"/>
              </a:spcBef>
              <a:buClr>
                <a:srgbClr val="ffd500"/>
              </a:buClr>
              <a:buFont typeface="QuayItcT-Black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QuayItcT-BoldItalic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QuayItcT-BoldItalic"/>
            </a:endParaRPr>
          </a:p>
          <a:p>
            <a:pPr lvl="4" marL="1544760" algn="ctr">
              <a:spcBef>
                <a:spcPts val="601"/>
              </a:spcBef>
              <a:buClr>
                <a:srgbClr val="ffd500"/>
              </a:buClr>
              <a:buFont typeface="QuayItcT-Black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QuayItcT-Book"/>
              </a:rPr>
              <a:t>Fifth Outline Level</a:t>
            </a:r>
            <a:endParaRPr b="0" i="1" lang="en-US" sz="1600" spc="-1" strike="noStrike">
              <a:solidFill>
                <a:srgbClr val="ffffff"/>
              </a:solidFill>
              <a:latin typeface="QuayItcT-Book"/>
            </a:endParaRPr>
          </a:p>
          <a:p>
            <a:pPr lvl="5" marL="1544760">
              <a:spcBef>
                <a:spcPts val="400"/>
              </a:spcBef>
              <a:buClr>
                <a:srgbClr val="000000"/>
              </a:buClr>
              <a:buFont typeface="QuayItcT-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QuayItcT-Book"/>
              </a:rPr>
              <a:t>Sixth Outline Level</a:t>
            </a:r>
            <a:endParaRPr b="0" i="1" lang="en-US" sz="1600" spc="-1" strike="noStrike">
              <a:solidFill>
                <a:srgbClr val="ffffff"/>
              </a:solidFill>
              <a:latin typeface="QuayItcT-Book"/>
            </a:endParaRPr>
          </a:p>
          <a:p>
            <a:pPr lvl="6" marL="1544760">
              <a:spcBef>
                <a:spcPts val="400"/>
              </a:spcBef>
              <a:buClr>
                <a:srgbClr val="000000"/>
              </a:buClr>
              <a:buFont typeface="QuayItcT-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QuayItcT-Book"/>
              </a:rPr>
              <a:t>Seventh Outline Level</a:t>
            </a:r>
            <a:endParaRPr b="0" i="1" lang="en-US" sz="1600" spc="-1" strike="noStrike">
              <a:solidFill>
                <a:srgbClr val="ffffff"/>
              </a:solidFill>
              <a:latin typeface="QuayItc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88520" y="2060280"/>
            <a:ext cx="8634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1179360" indent="-457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722600" indent="-3812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2265480" indent="-3812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814480" indent="-380880">
              <a:spcBef>
                <a:spcPts val="700"/>
              </a:spcBef>
              <a:buClr>
                <a:srgbClr val="000000"/>
              </a:buClr>
              <a:buFont typeface="Acume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814480" indent="-380880">
              <a:spcBef>
                <a:spcPts val="700"/>
              </a:spcBef>
              <a:buClr>
                <a:srgbClr val="000000"/>
              </a:buClr>
              <a:buFont typeface="Acume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814480" indent="-380880">
              <a:spcBef>
                <a:spcPts val="700"/>
              </a:spcBef>
              <a:buClr>
                <a:srgbClr val="000000"/>
              </a:buClr>
              <a:buFont typeface="Acume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1"/>
          </p:nvPr>
        </p:nvSpPr>
        <p:spPr>
          <a:xfrm>
            <a:off x="8554680" y="6244920"/>
            <a:ext cx="919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cume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cume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2"/>
          </p:nvPr>
        </p:nvSpPr>
        <p:spPr>
          <a:xfrm>
            <a:off x="8554680" y="6553080"/>
            <a:ext cx="855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800" spc="-1" strike="noStrike">
                <a:solidFill>
                  <a:srgbClr val="000000"/>
                </a:solidFill>
                <a:latin typeface="Acume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4FEC-B2A4-4F17-9E24-DA5BD3778B06}" type="slidenum">
              <a:rPr b="0" lang="en-AU" sz="800" spc="-1" strike="noStrike">
                <a:solidFill>
                  <a:srgbClr val="000000"/>
                </a:solidFill>
                <a:latin typeface="Acume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906120" cy="641520"/>
          </a:xfrm>
          <a:prstGeom prst="rect">
            <a:avLst/>
          </a:prstGeom>
          <a:solidFill>
            <a:srgbClr val="ffd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38160" y="5873760"/>
            <a:ext cx="1035000" cy="98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98600" y="4654440"/>
            <a:ext cx="1898640" cy="1898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6480" y="5010120"/>
            <a:ext cx="1847880" cy="1847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09520" cy="64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7832880" y="228600"/>
          <a:ext cx="1641240" cy="29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32880" y="228600"/>
                    <a:ext cx="164124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88880" y="189000"/>
            <a:ext cx="73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 Narrow"/>
              </a:rPr>
              <a:t>Twilight Seminar: Improving Search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7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7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7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siteexplorer.search.yahoo.com/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s://www.google.com/webmasters/sitemaps" TargetMode="External"/><Relationship Id="rId6" Type="http://schemas.openxmlformats.org/officeDocument/2006/relationships/hyperlink" Target="https://www.google.com/webmasters/sitemaps" TargetMode="External"/><Relationship Id="rId7" Type="http://schemas.openxmlformats.org/officeDocument/2006/relationships/hyperlink" Target="https://www.google.com/webmasters/sitemaps" TargetMode="External"/><Relationship Id="rId8" Type="http://schemas.openxmlformats.org/officeDocument/2006/relationships/image" Target="../media/image5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7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mailto:waynef@intergen.co.nz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hyperlink" Target="mailto:John-danielt@intergen.co.nz" TargetMode="External"/><Relationship Id="rId7" Type="http://schemas.openxmlformats.org/officeDocument/2006/relationships/image" Target="../media/image5.png"/><Relationship Id="rId8" Type="http://schemas.openxmlformats.org/officeDocument/2006/relationships/hyperlink" Target="http://blog.bluecog.co.nz/" TargetMode="Externa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7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5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681960" y="4365720"/>
            <a:ext cx="2982600" cy="2160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 Narrow"/>
              </a:rPr>
              <a:t>Better Website Search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94172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sure a clean layout of your resul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sure you have a plan to refine your cont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 a great search product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ximise the functionality of your search produc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 Narrow"/>
              </a:rPr>
              <a:t>The biggest mistake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88880" y="2060280"/>
            <a:ext cx="91440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 plans for future invest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1179360" indent="-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stly in terms of human resour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81960" y="4365720"/>
            <a:ext cx="298260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 Narrow"/>
              </a:rPr>
              <a:t>Better Global Search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88520" y="2060640"/>
            <a:ext cx="94172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sure you have great cont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1179360" indent="-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You can’t expect a search engine to turn poor content into great results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better your content, the more people will link to yo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1179360" indent="-4572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eyond all else, it takes tim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3152880" y="3618000"/>
            <a:ext cx="1006200" cy="1243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681960" y="4386240"/>
            <a:ext cx="2950920" cy="2138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 Narrow"/>
              </a:rPr>
              <a:t>Analyse Your Performance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8520" y="2060640"/>
            <a:ext cx="8634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Without feedback you can’t improv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What do you know from current search patterns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BehaviorTracker gives great detai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681960" y="4365720"/>
            <a:ext cx="298260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857240" y="692280"/>
          <a:ext cx="6667560" cy="59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692280"/>
                    <a:ext cx="6667560" cy="59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857240" y="692280"/>
          <a:ext cx="6647040" cy="59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692280"/>
                    <a:ext cx="6647040" cy="59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 Narrow"/>
              </a:rPr>
              <a:t>Case Study 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8634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American Health Product Si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1179360" indent="-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Narrow"/>
              </a:rPr>
              <a:t>215,000 searches a da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1179360" indent="-457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Narrow"/>
              </a:rPr>
              <a:t>46% had no resul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1179360" indent="-4572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Narrow"/>
              </a:rPr>
              <a:t>62% never selected a resul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Used laymens terms and competitors nam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 Narrow"/>
              </a:rPr>
              <a:t>Analyse Your Performance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8520" y="2060640"/>
            <a:ext cx="8634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ee tool to understand your global search position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1179360" indent="-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Narrow"/>
              </a:rPr>
              <a:t>Yahoo Site Explorer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Narrow"/>
                <a:hlinkClick r:id="rId3"/>
              </a:rPr>
              <a:t>http://siteexplorer.search.yahoo.c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1179360" indent="-4572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Narrow"/>
              </a:rPr>
              <a:t>Google SiteMap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Narrow"/>
                <a:hlinkClick r:id="rId5"/>
              </a:rPr>
              <a:t>https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Narrow"/>
                <a:hlinkClick r:id="rId6"/>
              </a:rPr>
              <a:t>www.google.com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Narrow"/>
                <a:hlinkClick r:id="rId7"/>
              </a:rPr>
              <a:t>/webmasters/sitemap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Most commercial tools are usel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9"/>
          <a:stretch/>
        </p:blipFill>
        <p:spPr>
          <a:xfrm>
            <a:off x="6681960" y="4386240"/>
            <a:ext cx="2950920" cy="2138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 Narrow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8634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Future investment must be ma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A feedback loop is importa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You can’t trick global search engin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 Narrow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8634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44520" y="41860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Narrow"/>
              </a:rPr>
              <a:t>Improving Se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81960" y="4552920"/>
            <a:ext cx="1942920" cy="194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4520" y="4735440"/>
            <a:ext cx="820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Narrow"/>
              </a:rPr>
              <a:t>And why you </a:t>
            </a:r>
            <a:r>
              <a:rPr b="1" lang="en-NZ" sz="2000" spc="-1" strike="noStrike">
                <a:solidFill>
                  <a:srgbClr val="000000"/>
                </a:solidFill>
                <a:latin typeface="Arial Narrow"/>
              </a:rPr>
              <a:t>don’t</a:t>
            </a:r>
            <a:r>
              <a:rPr b="0" lang="en-NZ" sz="2000" spc="-1" strike="noStrike">
                <a:solidFill>
                  <a:srgbClr val="000000"/>
                </a:solidFill>
                <a:latin typeface="Arial Narrow"/>
              </a:rPr>
              <a:t> want Goog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520" y="6137280"/>
            <a:ext cx="820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Narrow"/>
              </a:rPr>
              <a:t>John-Daniel Tr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 Narrow"/>
              </a:rPr>
              <a:t>More Information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8634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Contact Interg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1179360" indent="-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9999"/>
                </a:solidFill>
                <a:uFillTx/>
                <a:latin typeface="Arial Narrow"/>
                <a:hlinkClick r:id="rId3"/>
              </a:rPr>
              <a:t>waynef@intergen.co.nz</a:t>
            </a:r>
            <a:r>
              <a:rPr b="0" lang="en-NZ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Contact John-Dani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1179360" indent="-4572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9999"/>
                </a:solidFill>
                <a:uFillTx/>
                <a:latin typeface="Arial Narrow"/>
                <a:hlinkClick r:id="rId6"/>
              </a:rPr>
              <a:t>John-danielt@intergen.co.nz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1179360" indent="-4572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9999"/>
                </a:solidFill>
                <a:uFillTx/>
                <a:latin typeface="Arial Narrow"/>
                <a:hlinkClick r:id="rId8"/>
              </a:rPr>
              <a:t>http://blog.bluecog.co.nz</a:t>
            </a:r>
            <a:r>
              <a:rPr b="0" lang="en-NZ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722600" indent="-38124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Narrow"/>
              </a:rPr>
              <a:t>My weblog, search related entries et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 Narrow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8634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Types of sear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Why you don’t want Goog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Improving your resul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Analysing your performa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 Narrow"/>
              </a:rPr>
              <a:t>Types of Search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8634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Enterprise Search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Website Search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Global Search Engi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457960" y="2060640"/>
            <a:ext cx="1180800" cy="2425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rot="5400000">
            <a:off x="5589360" y="2847960"/>
            <a:ext cx="21873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000000"/>
                </a:solidFill>
                <a:latin typeface="QuayItcT-Black"/>
              </a:rPr>
              <a:t>Technology Matur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 Narrow"/>
              </a:rPr>
              <a:t>What makes search so hard?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8634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First – what is search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1179360" indent="-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Narrow"/>
              </a:rPr>
              <a:t>Retrieval of a result s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1179360" indent="-457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Narrow"/>
              </a:rPr>
              <a:t>Ranking by releva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Relevance is ke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681960" y="4365720"/>
            <a:ext cx="298260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 Narrow"/>
              </a:rPr>
              <a:t>What is Google?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8634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The most valuable media company in the world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Worth more than 110 billion US dolla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Powered by 10,000 servers – and grow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More than just a websi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95360" y="1844640"/>
            <a:ext cx="799920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 Narrow"/>
              </a:rPr>
              <a:t>Why you don’t want Google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8634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You don’t want to spend 100 million dollars to develop a world class search engi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oogle is poor at knowing what pages within a single site are popula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oogle isn’t a website search to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7581960" y="4552920"/>
            <a:ext cx="1942920" cy="194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 Narrow"/>
              </a:rPr>
              <a:t>Why Improve?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88520" y="2060280"/>
            <a:ext cx="8634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Improved usability of your websi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More return visitors to your websi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-542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Increased return on invest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681960" y="4365720"/>
            <a:ext cx="298260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 Narrow"/>
              </a:rPr>
              <a:t>Improving Your Results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57240" y="2060280"/>
            <a:ext cx="546588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On your websi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On international search si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76160" y="3951360"/>
            <a:ext cx="2624400" cy="1901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76160" y="1844640"/>
            <a:ext cx="2610000" cy="189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02:15:56Z</dcterms:created>
  <dc:creator>Intergen</dc:creator>
  <dc:description/>
  <cp:keywords/>
  <dc:language>en-US</dc:language>
  <cp:lastModifiedBy>John-Daniel Trask</cp:lastModifiedBy>
  <cp:lastPrinted>1998-08-20T17:06:03Z</cp:lastPrinted>
  <dcterms:modified xsi:type="dcterms:W3CDTF">2005-11-23T21:29:58Z</dcterms:modified>
  <cp:revision>169</cp:revision>
  <dc:subject>C#</dc:subject>
  <dc:title>Powerpoint template - White with arial narrow fo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isplay in New Document List">
    <vt:lpwstr>Yes</vt:lpwstr>
  </property>
  <property fmtid="{D5CDD505-2E9C-101B-9397-08002B2CF9AE}" pid="3" name="Status">
    <vt:lpwstr/>
  </property>
  <property fmtid="{D5CDD505-2E9C-101B-9397-08002B2CF9AE}" pid="4" name="Template Icon">
    <vt:lpwstr>PowerPoint</vt:lpwstr>
  </property>
</Properties>
</file>